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6204-83F7-4AF8-8594-20F4248CC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9CB8-4C58-4DE1-A0F7-D33BE818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7498-6A5F-42C5-9446-D101BB121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778A-BE8A-4156-9CF7-F97E4504D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BF5AD-A099-448C-A03F-E38AB93A6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0C7C8-A83C-4DD0-8B9D-788E6C8D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6050-7D7F-4508-9BFA-99BFE891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91B3C-6EF1-41C0-A61C-FA911F00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CCE1A-EF17-4898-856D-2E216165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9C7B-645F-4F0B-AA28-DAB4A723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6A1C-D855-4B17-A1E5-7B3ACA94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47FC-EC1D-4C19-9E64-34DCF650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D04CE-DDA5-411E-A4BF-CC760630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9164-5179-4080-AC4C-3C9E6093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6145-6BF0-401A-94D8-8B5443C1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11DD-CBF5-410B-89E2-9E9422B46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697C-744C-48F7-A14F-D52B9A838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75CD-464A-476A-A91F-3DE42FF6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C6BA-176D-4D53-9CA7-BD75762E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2B3D-15E1-4410-A7D1-13B7A681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F0BD-9A36-403A-9060-23B0567C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B13A-EB65-41DD-9DB3-DB699F5B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0721-7E52-43CC-83D3-4E6CA0F6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275C-95ED-40A5-9203-5C3BA8D9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C020-C1D4-421D-A958-2D2021750F9C}" type="slidenum">
              <a:rPr b="0" lang="en-A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D6FD-760D-43DC-8233-DC76EE3748D8}" type="slidenum">
              <a:rPr b="0" lang="en-A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868400"/>
            <a:ext cx="77724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Tahoma"/>
              </a:rPr>
              <a:t>Training Needs Analysis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295280" y="342900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545472"/>
                </a:solidFill>
                <a:latin typeface="Tahoma"/>
              </a:rPr>
              <a:t>If you think training is expensive try ignorance!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port the finding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itle pag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xecutive summary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able of content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ntroductio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Recommendatio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raining Pla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Data collection and analysis method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st analysis, proposed costs of recommended solution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78" name="bd06937_" descr=""/>
          <p:cNvPicPr/>
          <p:nvPr/>
        </p:nvPicPr>
        <p:blipFill>
          <a:blip r:embed="rId10"/>
          <a:stretch/>
        </p:blipFill>
        <p:spPr>
          <a:xfrm>
            <a:off x="5486400" y="1600200"/>
            <a:ext cx="3276720" cy="304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9D03-2EFF-43FD-92C5-45932C6DF96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Tahoma"/>
              </a:rPr>
              <a:t>Recap!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 TNA is the </a:t>
            </a:r>
            <a:r>
              <a:rPr b="0" i="1" lang="en-US" sz="3200" spc="-1" strike="noStrike">
                <a:solidFill>
                  <a:srgbClr val="545472"/>
                </a:solidFill>
                <a:latin typeface="Tahoma"/>
              </a:rPr>
              <a:t>method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of determining if a training need exists and if it does, what training is required to fill the gap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Much of the TNA process is about asking questions and getting answer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erforming a TNA requires seven steps, which build on each other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osting the performance problem and comparing training costs is an important part of the TNA repor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60BC-7346-4A96-A6A1-F08BF15EC5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earning Outcom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efine a training needs analysis (TNA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Explain the significance of a TNA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Explain the process for carrying out a TNA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onduct a TNA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Report the findings of a TNA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53E4-1110-4A5F-AC3D-1499D729F5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Training Proces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3809880" y="1905120"/>
            <a:ext cx="1905120" cy="129528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  <a:effectLst>
            <a:outerShdw dist="143570" dir="189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Identify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the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Arial"/>
              </a:rPr>
              <a:t>Need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3276720"/>
            <a:ext cx="1905120" cy="129528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  <a:effectLst>
            <a:outerShdw dist="153009" dir="18693983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Arial"/>
              </a:rPr>
              <a:t>Evaluate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the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248520" y="3276720"/>
            <a:ext cx="1904760" cy="129528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  <a:effectLst>
            <a:outerShdw dist="143570" dir="189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Arial"/>
              </a:rPr>
              <a:t>Plan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54547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57600" y="4648320"/>
            <a:ext cx="1905120" cy="129528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  <a:effectLst>
            <a:outerShdw dist="143570" dir="189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Arial"/>
              </a:rPr>
              <a:t>Deliver</a:t>
            </a:r>
            <a:r>
              <a:rPr b="1" lang="en-US" sz="2400" spc="-1" strike="noStrike">
                <a:solidFill>
                  <a:srgbClr val="54547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the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979400">
            <a:off x="5744880" y="2190600"/>
            <a:ext cx="1662120" cy="754200"/>
          </a:xfrm>
          <a:custGeom>
            <a:avLst/>
            <a:gdLst>
              <a:gd name="textAreaLeft" fmla="*/ 290880 w 1662120"/>
              <a:gd name="textAreaRight" fmla="*/ 1205280 w 1662120"/>
              <a:gd name="textAreaTop" fmla="*/ 100800 h 754200"/>
              <a:gd name="textAreaBottom" fmla="*/ 653400 h 754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  <a:effectLst>
            <a:outerShdw dist="107932" dir="189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9557600">
            <a:off x="2133720" y="2209680"/>
            <a:ext cx="1662120" cy="685800"/>
          </a:xfrm>
          <a:custGeom>
            <a:avLst/>
            <a:gdLst>
              <a:gd name="textAreaLeft" fmla="*/ 290880 w 1662120"/>
              <a:gd name="textAreaRight" fmla="*/ 1205280 w 166212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  <a:effectLst>
            <a:outerShdw dist="107932" dir="189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2779400">
            <a:off x="1904760" y="4876560"/>
            <a:ext cx="1662120" cy="753840"/>
          </a:xfrm>
          <a:custGeom>
            <a:avLst/>
            <a:gdLst>
              <a:gd name="textAreaLeft" fmla="*/ 290880 w 1662120"/>
              <a:gd name="textAreaRight" fmla="*/ 1205280 w 1662120"/>
              <a:gd name="textAreaTop" fmla="*/ 100800 h 753840"/>
              <a:gd name="textAreaBottom" fmla="*/ 653040 h 753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  <a:effectLst>
            <a:outerShdw dist="107932" dir="189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9280800">
            <a:off x="5562000" y="4952160"/>
            <a:ext cx="1662120" cy="754200"/>
          </a:xfrm>
          <a:custGeom>
            <a:avLst/>
            <a:gdLst>
              <a:gd name="textAreaLeft" fmla="*/ 288000 w 1662120"/>
              <a:gd name="textAreaRight" fmla="*/ 1197720 w 1662120"/>
              <a:gd name="textAreaTop" fmla="*/ 100800 h 754200"/>
              <a:gd name="textAreaBottom" fmla="*/ 653400 h 754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93" hR="21600" stAng="10800000" swAng="5400000"/>
                <a:lnTo>
                  <a:pt x="11820" y="0"/>
                </a:lnTo>
                <a:arcTo wR="7493" hR="21600" stAng="-5400000" swAng="2667223"/>
                <a:lnTo>
                  <a:pt x="21171" y="14400"/>
                </a:lnTo>
                <a:lnTo>
                  <a:pt x="17149" y="21600"/>
                </a:lnTo>
                <a:lnTo>
                  <a:pt x="12268" y="14400"/>
                </a:lnTo>
                <a:lnTo>
                  <a:pt x="14556" y="14400"/>
                </a:lnTo>
                <a:arcTo wR="7493" hR="21600" stAng="-2732777" swAng="-2308875"/>
                <a:lnTo>
                  <a:pt x="9656" y="920"/>
                </a:lnTo>
                <a:arcTo wR="7493" hR="21600" stAng="-5758348" swAng="-5041652"/>
                <a:close/>
              </a:path>
              <a:path fill="darkenLess" w="21600" h="21600">
                <a:moveTo>
                  <a:pt x="0" y="21600"/>
                </a:moveTo>
                <a:arcTo wR="7493" hR="21600" stAng="10800000" swAng="5400000"/>
                <a:lnTo>
                  <a:pt x="7493" y="0"/>
                </a:lnTo>
                <a:arcTo wR="7493" hR="21600" stAng="-5400000" swAng="358348"/>
                <a:lnTo>
                  <a:pt x="9656" y="920"/>
                </a:lnTo>
                <a:arcTo wR="7493" hR="21600" stAng="-5758348" swAng="-5041652"/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  <a:effectLst>
            <a:outerShdw dist="107932" dir="189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6609-0A30-43A5-BF72-509BB35370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767880"/>
            <a:ext cx="883908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at is a training needs analysis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 training needs analysis is the </a:t>
            </a:r>
            <a:r>
              <a:rPr b="0" i="1" lang="en-US" sz="3200" spc="-1" strike="noStrike">
                <a:solidFill>
                  <a:srgbClr val="545472"/>
                </a:solidFill>
                <a:latin typeface="Tahoma"/>
              </a:rPr>
              <a:t>method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of determining if a training need exists and if it does, what training is required to fill the gap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3962520" y="1676520"/>
            <a:ext cx="5486400" cy="469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D635-97DA-492D-AF71-204B230B1F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68240"/>
            <a:ext cx="830592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y should you conduct a TNA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void training for ‘training sake’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upports cost effective training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argets areas of greatest need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Gives information on the organisation’s climate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Gives commitment from managers and trainer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parates the ‘symptoms’ from the causes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2837-8B82-4926-A2EE-B6B930879D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ow can a need to identified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omplaints from staff, customers/client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oor quality work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requent error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arge staff turnove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eadlines not being me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onflict amongst staff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New equipment system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5638680" y="2666880"/>
            <a:ext cx="3276720" cy="3581640"/>
          </a:xfrm>
          <a:prstGeom prst="irregularSeal1">
            <a:avLst/>
          </a:prstGeom>
          <a:solidFill>
            <a:srgbClr val="a7ccd9"/>
          </a:solidFill>
          <a:ln w="12600">
            <a:solidFill>
              <a:srgbClr val="545472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Arial"/>
              </a:rPr>
              <a:t>Indicators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Arial"/>
              </a:rPr>
              <a:t>of a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Arial"/>
              </a:rPr>
              <a:t>need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AC3B-3B1C-4120-AD35-BD6F56E4D3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Job information that </a:t>
            </a: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needs to be collected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776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Job rol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Job proces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Task lis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Job problem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Task frequency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Task difficulty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Task importanc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61" name="amorgani" descr=""/>
          <p:cNvPicPr/>
          <p:nvPr/>
        </p:nvPicPr>
        <p:blipFill>
          <a:blip r:embed="rId2"/>
          <a:stretch/>
        </p:blipFill>
        <p:spPr>
          <a:xfrm>
            <a:off x="6095880" y="2286000"/>
            <a:ext cx="1676520" cy="3733920"/>
          </a:xfrm>
          <a:prstGeom prst="rect">
            <a:avLst/>
          </a:prstGeom>
          <a:ln w="0">
            <a:noFill/>
          </a:ln>
        </p:spPr>
      </p:pic>
      <p:pic>
        <p:nvPicPr>
          <p:cNvPr id="162" name="amconfus" descr=""/>
          <p:cNvPicPr/>
          <p:nvPr/>
        </p:nvPicPr>
        <p:blipFill>
          <a:blip r:embed="rId3"/>
          <a:stretch/>
        </p:blipFill>
        <p:spPr>
          <a:xfrm>
            <a:off x="228600" y="3124080"/>
            <a:ext cx="1327320" cy="2853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219320" y="2438280"/>
            <a:ext cx="1523880" cy="1219320"/>
          </a:xfrm>
          <a:prstGeom prst="wedgeEllipseCallout">
            <a:avLst>
              <a:gd name="adj1" fmla="val -58856"/>
              <a:gd name="adj2" fmla="val 54949"/>
            </a:avLst>
          </a:prstGeom>
          <a:solidFill>
            <a:srgbClr val="a7ccd9"/>
          </a:solidFill>
          <a:ln w="12600">
            <a:solidFill>
              <a:srgbClr val="545472"/>
            </a:solidFill>
            <a:miter/>
          </a:ln>
          <a:effectLst>
            <a:outerShdw dist="107932" dir="189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How often?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96080" y="2819520"/>
            <a:ext cx="1447920" cy="1218960"/>
          </a:xfrm>
          <a:prstGeom prst="wedgeEllipseCallout">
            <a:avLst>
              <a:gd name="adj1" fmla="val -75768"/>
              <a:gd name="adj2" fmla="val 26564"/>
            </a:avLst>
          </a:prstGeom>
          <a:solidFill>
            <a:srgbClr val="a7ccd9"/>
          </a:solidFill>
          <a:ln w="12600">
            <a:solidFill>
              <a:srgbClr val="545472"/>
            </a:solidFill>
            <a:miter/>
          </a:ln>
          <a:effectLst>
            <a:outerShdw dist="107932" dir="189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How hard?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BDF5-284A-4156-BC93-E0A792E61D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ow to do a TNA - proces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1600200"/>
            <a:ext cx="4952880" cy="838080"/>
          </a:xfrm>
          <a:prstGeom prst="rightArrow">
            <a:avLst>
              <a:gd name="adj1" fmla="val 50000"/>
              <a:gd name="adj2" fmla="val 147745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  <a:effectLst>
            <a:outerShdw dist="107932" dir="189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1. Document the problem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2362320"/>
            <a:ext cx="5105520" cy="838080"/>
          </a:xfrm>
          <a:prstGeom prst="rightArrow">
            <a:avLst>
              <a:gd name="adj1" fmla="val 50000"/>
              <a:gd name="adj2" fmla="val 152298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  <a:effectLst>
            <a:outerShdw dist="107932" dir="189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2. investigate the problem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3124080"/>
            <a:ext cx="5257800" cy="838440"/>
          </a:xfrm>
          <a:prstGeom prst="rightArrow">
            <a:avLst>
              <a:gd name="adj1" fmla="val 50000"/>
              <a:gd name="adj2" fmla="val 156773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  <a:effectLst>
            <a:outerShdw dist="107932" dir="189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3. Plan the needs analysi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28800" y="3809880"/>
            <a:ext cx="5257800" cy="838440"/>
          </a:xfrm>
          <a:prstGeom prst="rightArrow">
            <a:avLst>
              <a:gd name="adj1" fmla="val 50000"/>
              <a:gd name="adj2" fmla="val 156773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  <a:effectLst>
            <a:outerShdw dist="107932" dir="189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4. Select the techniqu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38280" y="4495680"/>
            <a:ext cx="5257800" cy="838440"/>
          </a:xfrm>
          <a:prstGeom prst="rightArrow">
            <a:avLst>
              <a:gd name="adj1" fmla="val 50000"/>
              <a:gd name="adj2" fmla="val 156773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  <a:effectLst>
            <a:outerShdw dist="107932" dir="189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5. Conduct the analysi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19520" y="5257800"/>
            <a:ext cx="5257800" cy="838080"/>
          </a:xfrm>
          <a:prstGeom prst="rightArrow">
            <a:avLst>
              <a:gd name="adj1" fmla="val 50000"/>
              <a:gd name="adj2" fmla="val 156841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  <a:effectLst>
            <a:outerShdw dist="107932" dir="189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6. Analyse the dat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57600" y="6019920"/>
            <a:ext cx="5257800" cy="838080"/>
          </a:xfrm>
          <a:prstGeom prst="rightArrow">
            <a:avLst>
              <a:gd name="adj1" fmla="val 50000"/>
              <a:gd name="adj2" fmla="val 156841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  <a:effectLst>
            <a:outerShdw dist="107932" dir="189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7. Report the finding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53080" y="1371600"/>
            <a:ext cx="2590920" cy="2743200"/>
          </a:xfrm>
          <a:prstGeom prst="irregularSeal1">
            <a:avLst/>
          </a:prstGeom>
          <a:solidFill>
            <a:srgbClr val="a7ccd9"/>
          </a:solidFill>
          <a:ln w="12600">
            <a:solidFill>
              <a:srgbClr val="545472"/>
            </a:solidFill>
            <a:miter/>
          </a:ln>
          <a:effectLst>
            <a:outerShdw dist="107932" dir="189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B8D4-6281-4469-B17D-950B334FED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chniques for carrying out TNA’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nterview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urvey questionnair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Job descriptions and person specification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ritical incident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og books and other company record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ndustry seminar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upervisor’s report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5513-2364-45EA-87B2-5A0F88F356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8T13:50:10Z</dcterms:created>
  <dc:creator>Bus Studies</dc:creator>
  <dc:description/>
  <dc:language>en-US</dc:language>
  <cp:lastModifiedBy>John McDonald</cp:lastModifiedBy>
  <cp:lastPrinted>1997-07-28T13:11:46Z</cp:lastPrinted>
  <dcterms:modified xsi:type="dcterms:W3CDTF">2000-08-01T21:42:34Z</dcterms:modified>
  <cp:revision>13</cp:revision>
  <dc:subject/>
  <dc:title>Training Needs Analysis</dc:title>
</cp:coreProperties>
</file>